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B3E-C317-49F9-B28F-ED5584C3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0F7-4EED-45AC-97CD-7E395488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33A-2724-47EA-A9DB-8FC24DD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FE5-A03E-46F3-AC3F-4A372259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B69-9126-4825-A039-A56CDF98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6D5-2BA4-453E-A197-2FA516D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CE7-0A4D-45CF-9BCA-D5C7BA8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256-F479-4E22-8439-C05DEC4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712A-C378-4DDC-9EE0-7A3BBD4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4C4B-9704-4D45-9735-E313358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ECB-2212-4FFC-8C9E-1DFC50D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348-9ADC-44A3-8518-59224C9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B66-D922-4800-AD36-E8A1CC2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11C-B09F-4F95-B154-5B51228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D61-F736-4E02-979C-0C634A5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A32-54C3-4D58-8DB0-F1CAA0E2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B96-0583-4C9E-9552-209DEEA6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0F2-FD90-42A6-A408-753B0D5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A1E-548C-455E-B0A1-785B67E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2CB-9C10-448D-9565-74477EE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3C3-EA7F-4511-BCFF-09DE6C94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A08-53AA-44EA-AA43-ADA1D42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32B-8E4F-4CD8-B660-A4F2028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9E-3C79-4A91-909A-EA68099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1287-4372-4591-9863-869B4E26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69D-7D11-41B2-8ED1-552F802FF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4: Writers Craft, Reading Like a Writer and Emergent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12189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5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ir (Personal Narra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765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 Word Mem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ithmag.net/sixwordbook/2010/09/13/video-six-tips-for-writing-six-word-memoirs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v.vimeo.com/65269/936/53212683.mp4?token=1347544521_eeb3441c7ce17c541b34c84d69ee55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ithmag.net/sixwordbook/sixword-storybook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rained. Run….Bike… Swim. I R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 it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in a memoi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inting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word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ich words are important and really convey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ose words together for a 6 word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28954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Heart Map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would you like to write about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that story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 you words an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your 6 words for you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From our Heart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DSC00694"/>
          <p:cNvPicPr/>
          <p:nvPr/>
        </p:nvPicPr>
        <p:blipFill>
          <a:blip r:embed="rId1"/>
          <a:stretch/>
        </p:blipFill>
        <p:spPr>
          <a:xfrm>
            <a:off x="0" y="0"/>
            <a:ext cx="3124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’s C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f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killed practice of a practical occu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’s Craf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ols and practices that writers use in their writing to convey particular meaning, create an effect, describe a setting or character. How a writer uses language to reach an audience. Purpose will also determine the tools and practices the writer 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534680"/>
            <a:ext cx="3125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5120" y="2209320"/>
            <a:ext cx="3582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he story is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440" y="153468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r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86400" y="2174400"/>
            <a:ext cx="32004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ls that writer’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omatopoe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1443240" y="556272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ly in fiction writing but can be in non-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Like a Writ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uthors do to share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cture, Craft,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r 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ento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your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this text in your classroom to teach about writer’s cra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’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ics/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Literature Circle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h. 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ergent Reading and Writing (Language 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ing laptops for work on Literature Focu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’s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ading/writing connection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ing like a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riter’s Craft and craft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mentor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Craft Writing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honics and 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strategies for teaching Phonics/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verything we know as writers, we know as readers first.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y Ray 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ngs to consider when teaching wri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52120" y="1905120"/>
            <a:ext cx="7239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need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hildren to talk about a story with another. Have them “turn and talk” with a partner to tell their stories before writ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handwriting, spelling and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should have the opportunity to write throughout the day and throughout the cont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like a 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hing about the craft of the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i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why a writer might use this c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craf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exts/auth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know.  Have you seen this craft befo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is crafting in your own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ing What Writer’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998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- What do these authors do for lea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o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u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 of Three- three words used in a row to create empha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ry Elements/Figurativ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Ideas (Linear, See-Saw, Circular, Flash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and Bold/Small and 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ons- illustrations are an important part of the story when creating picture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irs(Personal Narrativ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2057400" cy="167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132732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134040" y="1157400"/>
            <a:ext cx="1676520" cy="133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2187720" y="733320"/>
            <a:ext cx="17143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0" y="2743200"/>
            <a:ext cx="152388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178128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7"/>
          <a:stretch/>
        </p:blipFill>
        <p:spPr>
          <a:xfrm>
            <a:off x="1676520" y="2819520"/>
            <a:ext cx="19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8"/>
          <a:stretch/>
        </p:blipFill>
        <p:spPr>
          <a:xfrm>
            <a:off x="380880" y="4572000"/>
            <a:ext cx="183384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9"/>
          <a:stretch/>
        </p:blipFill>
        <p:spPr>
          <a:xfrm>
            <a:off x="4038480" y="77148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5105520" y="2590920"/>
            <a:ext cx="37335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 can write about a time when w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afra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vercame an obst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with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surpr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complished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d a difficul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d something for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d vis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683720" y="632628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odreads.com/list/tag/memo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ing Mem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3712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texts have in common  What makes them memo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who is narrating the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all told in first person?  Why do you think that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e scope of the memoirs?  How many days do they usually 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suppose it looks at such a short tim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a mem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someone sit down and write about an event in his/her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ocuses and reflects on the relationship between the writer and a particular person, place, animal, or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ry will make you feel something: happy, sad, mad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plains the significance of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aves the reader with one impression of the subject of the mem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imited to a particular phase, time period, place, or recurring behavior in order to develop the focus 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kes the subject of the memoir come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intains a first person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7:33:06Z</dcterms:created>
  <dc:creator>College of Education</dc:creator>
  <dc:description/>
  <cp:keywords/>
  <dc:language>en-US</dc:language>
  <cp:lastModifiedBy>College of Education</cp:lastModifiedBy>
  <dcterms:modified xsi:type="dcterms:W3CDTF">2013-02-05T17:47:07Z</dcterms:modified>
  <cp:revision>17</cp:revision>
  <dc:subject/>
  <dc:title>Beyond the Basal: Reading/Writing 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61033</vt:lpwstr>
  </property>
</Properties>
</file>